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439400" cy="7848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DA8-52FE-4B0A-99BC-C671F991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0560" y="1830240"/>
            <a:ext cx="939960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560" y="4536720"/>
            <a:ext cx="939960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8A9-E8B2-4859-9770-27FAC588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0560" y="183024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000" y="183024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0560" y="453672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7000" y="453672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D50-C19D-47C0-BA0B-61E3577F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0560" y="1830240"/>
            <a:ext cx="302652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1830240"/>
            <a:ext cx="302652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7080" y="1830240"/>
            <a:ext cx="302652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0560" y="4536720"/>
            <a:ext cx="302652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4536720"/>
            <a:ext cx="302652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7080" y="4536720"/>
            <a:ext cx="302652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C35-4209-4BC9-82D3-6296DBE1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0560" y="1830240"/>
            <a:ext cx="939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19D-7C64-433D-93EC-568352A2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0560" y="1830240"/>
            <a:ext cx="9399600" cy="5181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475-3306-4E06-A6F3-1E8A651E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0560" y="1830240"/>
            <a:ext cx="4586760" cy="5181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37000" y="1830240"/>
            <a:ext cx="4586760" cy="5181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9E6-66A0-468C-936C-AC5F34A3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9CE-9CC8-4C06-9273-F3A5729C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0560" y="314280"/>
            <a:ext cx="9399600" cy="60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0AE-E60F-4F42-8510-F72D06DB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0560" y="183024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7000" y="1830240"/>
            <a:ext cx="4586760" cy="5181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0560" y="453672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787-3ABD-4583-BB19-2678AE0C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0560" y="1830240"/>
            <a:ext cx="4586760" cy="5181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000" y="183024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7000" y="453672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2AF-56A2-4C2C-9BDA-C8932A1B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0560" y="183024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000" y="1830240"/>
            <a:ext cx="458676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560" y="4536720"/>
            <a:ext cx="9399600" cy="24714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C9A-9941-4931-B69F-04792016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0560" y="1830240"/>
            <a:ext cx="9399600" cy="5181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541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70120" indent="-2541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76640" indent="-2527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76640" indent="-2527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76640" indent="-2527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0560" y="7148520"/>
            <a:ext cx="2440080" cy="542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lstStyle>
            <a:lvl1pPr indent="0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68320" y="7148520"/>
            <a:ext cx="3303720" cy="542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lstStyle>
            <a:lvl1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80080" y="7148520"/>
            <a:ext cx="2439720" cy="542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fld id="{1BC36235-3BAA-4BF5-AC39-0B16C9C6073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ШКОЛА КРАЕВЕДА</a:t>
            </a:r>
            <a:br>
              <a:rPr sz="31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грамма рассчитана на учащихся 8-11 клас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40040" y="1742760"/>
            <a:ext cx="6282000" cy="5181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аеведческий час «Древнерусская святыня, родина богатырей» (О Владимирской земл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ставка-вернисаж «С почтеньем к старине далеко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аеведческие посиделки в музее «Белокаменная летопись Владимирской Рус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ас исторического портрета «Дипломат и воин» (О князе А.Невск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аеведческие чтения «Владимирские губернаторы. Долгоруков – губернатор и поэ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тературный калейдоскоп «Русские писатели и Владимирский кр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урнир знатоков «Загадки старого горо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очное путешествие по городу «Улицы расскажут вам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аеведческие чтения «И.Е.Репин в с.Варварин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стреча с ветеранами Великой Отечественной войны «Годы войны – века памя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кологический КВН «Край, в котором мы живе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400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400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400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20560" y="2674800"/>
            <a:ext cx="287208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0560" y="314280"/>
            <a:ext cx="9399600" cy="13082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ИТЕРАТУРНОЕ КРАЕВЕДЕНИЕ</a:t>
            </a:r>
            <a:br>
              <a:rPr sz="45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рамма рассчитана на учащихся 7-9 классов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ель: приобщение учащихся к лучшим образцам художественной литературы Владимирского края, воспитание любви к краеведческой кни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5040" y="1830240"/>
            <a:ext cx="9194760" cy="5181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очная экскурсия по литературным местам Владими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итературный час «Древнюю быль до вас донесу» (Эдуард Зор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итературно-музыкальная гостиная «Вязниковский соловей» (Алексей Фатьян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итературный час «Певец Владимирских проселков» (Владимир Солоух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курс чтецов стихотворений В.Солоух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итературный калейдоскоп «С книгами Сергея Голицына по Владимирскому кра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очное историческое путешествие по книге Любови Фоминцевой «Сунгирская лошад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Грибоедов и Владимирский кра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раеведческий час «Автор бессмертной строки» (Александр Одое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4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ечер поэзии «Вернисаж владимирски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э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51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05-02-04T07:02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